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5FEE-09DA-48FC-A3FC-C5146D0A5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speaking and writing activity with this. They roll the dice and form sent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speaking and writing activity with this. They roll the dice and form sent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8CA-1264-4A51-946B-8FAF50A9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12E-C147-4E64-A369-C6E506F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DDE-DEB9-4DC3-A173-768CDFE9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242-95A8-4B1B-A804-4DFD025B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ABC-8E09-4D9C-9FB7-01D833F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C54-EBF9-4055-A2CB-25CE5B41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FD4-C3BF-4872-B5E3-53CFC260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008-B3C8-48B3-8862-FF9BB50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AC9-598C-4F6E-A61D-FF072342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616-3F0A-405F-B21D-EFE4944F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565-09FF-4E68-9DF6-22C8D07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1B0-3798-434A-A350-63387FB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77C-3FEF-4C55-BA01-9048CC361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14" Type="http://schemas.openxmlformats.org/officeDocument/2006/relationships/image" Target="../media/image5.jpeg"/><Relationship Id="rId15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14" Type="http://schemas.openxmlformats.org/officeDocument/2006/relationships/image" Target="../media/image5.jpeg"/><Relationship Id="rId15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24" Type="http://schemas.openxmlformats.org/officeDocument/2006/relationships/image" Target="../media/image10.jpe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42920" y="476280"/>
            <a:ext cx="676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Perfect T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Swim, not sink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4076640"/>
            <a:ext cx="8724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te down 5 things you c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member about the Perfect T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 French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 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é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morning he watched a fil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e matin il a regard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un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esterday I listened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Hier, j’ai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couté de la mus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ast summer I did the wash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L’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té dernier, j’ai fait de la vaiss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aturday she played football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Samedi, elle a jou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au foot avec ses cop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e ate at six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On a mang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à six he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362320" cy="1676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té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 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st tense sentences have three parts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3300"/>
                </a:solidFill>
                <a:latin typeface="Calibri"/>
              </a:rPr>
              <a:t>J’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jou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imes we use “avoir” to make the sentence in the pas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owever with some verbs we need to use “être” instead of “avoir” when we make sentences in the pas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know how to form the passé composé with ‘avoir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have learned all the irregular verbs e.g fair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fa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will be a muliple choice test on Friday – so be read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j’ai 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lévision regardé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u un coca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oué l’ordinateur j’ai 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élo fait du dimanche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s frites à la mangé cantine j’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magasins le week-end dernier fait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u cinéma film un j’ai regar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ison à la j’ai mang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assé semaines j’ai trois Espagne 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imé nourriture la j’ai beaucoup fr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-360" y="-243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copie les phrases dans le bon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est – How much can you reme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/She ha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 all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y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/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/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62160" y="612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74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est -Irregular Past Parti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9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oi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end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ître – (somebody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roi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Êt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t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uv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nd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79640" y="836280"/>
            <a:ext cx="403884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ran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derstoo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ne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elieve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ad to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i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ee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e/mad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u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o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e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nte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74120" y="636120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920" y="-698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hrases - regu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ate (ma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e finished (fin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 sold (ven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You all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y sold (mascu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J’ai mang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62160" y="6197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3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phrases - irregul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did (fa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believed (cro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was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êt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he understood (comprend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y drank (bo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J’ai f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86080" y="4735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9560" y="6410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otal     /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93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J’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suis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Il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Elle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On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66680" y="39625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410080"/>
            <a:ext cx="175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s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1066680"/>
            <a:ext cx="1143000" cy="259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520" y="1219320"/>
            <a:ext cx="68580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952880"/>
            <a:ext cx="175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voir is replaced b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419360" y="38862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048120"/>
            <a:ext cx="838080" cy="838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00800" y="1143000"/>
            <a:ext cx="838080" cy="2743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962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52280"/>
            <a:ext cx="8763120" cy="632484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371600"/>
            <a:ext cx="1295280" cy="5273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E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371600"/>
            <a:ext cx="1295640" cy="52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u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685800"/>
            <a:ext cx="12952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685800"/>
            <a:ext cx="12956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80880"/>
            <a:ext cx="3809880" cy="574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nter – to climb - mon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ter – to stay - res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rtir – to go out - so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ir – to come - v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ller – to go - all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ître – to be born - 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cendre – to go down - desce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trer – to go in - 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mber – to fall - tomb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trer – to go back - r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river – to arrive - arri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urir – to die -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rtir – to leave -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3816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9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9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371600"/>
            <a:ext cx="1295280" cy="5273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E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371600"/>
            <a:ext cx="1295640" cy="52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u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"/>
            <a:ext cx="12952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685800"/>
            <a:ext cx="12956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80880"/>
            <a:ext cx="3809880" cy="574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nter – to climb - mon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ester – to stay - rest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ortir – to go out - so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ir – to come - v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ller – to go - all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ître – to be born - 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cendre – to go down - desce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trer – to go in - 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mber – to fall - tomb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entrer – to go back - rent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rriver – to arrive - arriv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urir – to die -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rtir – to leave -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2373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arn the verbs underl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716360" y="4419360"/>
            <a:ext cx="160560" cy="18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drumro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620640"/>
            <a:ext cx="8686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TALKING ABOUT GIRLS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dd an “e” onto the final 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e suis 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only if girl describ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 est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always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est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use if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talking about gir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Il est allé (does not 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EN TALKING ABOUT MORE THAN ONE PERSON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You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dd an “s” onto the final 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us sommes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f group is all male or a mixed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us sommes allée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if the group is all fem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s sont allés (all male or mixed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s sont allées (all fem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crivez les phrases en fran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çais et en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nglai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2578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al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au ciné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arriv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à l’heure.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ier, elle est rentr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e t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l est rest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 à la mais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 est al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en Espag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e soir, elle est sortie avec 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parti(e)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 huit heures samedi so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 est allée en ville avec sa fam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676520"/>
            <a:ext cx="152424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ard -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333360"/>
          <a:ext cx="8713800" cy="6191280"/>
        </p:xfrm>
        <a:graphic>
          <a:graphicData uri="http://schemas.openxmlformats.org/drawingml/2006/table">
            <a:tbl>
              <a:tblPr/>
              <a:tblGrid>
                <a:gridCol w="1111320"/>
                <a:gridCol w="1122120"/>
                <a:gridCol w="792360"/>
                <a:gridCol w="1079280"/>
                <a:gridCol w="863640"/>
                <a:gridCol w="1584360"/>
                <a:gridCol w="1008000"/>
                <a:gridCol w="115272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r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end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447920"/>
            <a:ext cx="8001000" cy="48607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 week-end dernie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(1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hez mon 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. Vendredi soir,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2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cinéma ensemble.  Samedi matin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3. sorti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vec des copains.  On    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4. bo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coca et ensuite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5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u vélo.  C’était génial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6. rentr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 six heures.  Samedi soi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7. mang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restaurant avec mon père.  C’ était un peu ennuyeux. Dimanche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8. rest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à la maison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9. regard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bon film à la télévision. Après ça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10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copie et comp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ète les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1447920"/>
            <a:ext cx="8001000" cy="48607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 week-end dernier, je </a:t>
            </a:r>
            <a:r>
              <a:rPr b="0" lang="en-GB" sz="2800" spc="-1" strike="noStrike">
                <a:solidFill>
                  <a:srgbClr val="ff3300"/>
                </a:solidFill>
                <a:latin typeface="Calibri"/>
              </a:rPr>
              <a:t>suis all</a:t>
            </a:r>
            <a:r>
              <a:rPr b="0" lang="en-GB" sz="2800" spc="-1" strike="noStrike">
                <a:solidFill>
                  <a:srgbClr val="ff3300"/>
                </a:solidFill>
                <a:latin typeface="Calibri"/>
                <a:ea typeface="Times New Roman"/>
              </a:rPr>
              <a:t>é(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hez mon 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. Vendredi soir,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2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cinéma ensemble.  Samedi matin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3. sorti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vec des copains.  On    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4. bo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coca et ensuite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5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u vélo.  C’était génial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6. rentr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 six heures.  Samedi soi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7. mang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restaurant avec mon père.  C’ était un peu ennuyeux. Dimanche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8. rest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à la maison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9. regard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bon film à la télévision. Après ça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10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copie et comp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ète les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443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watch?v=n4UozxSeaX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Qe1HsTDVU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watch?v=3LRnd-bVa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iNWnr_zd4P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8136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566100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1486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0000" y="2521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3529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21440" y="4626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21440" y="5705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21440" y="59364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21440" y="1530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21440" y="2565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3"/>
          <a:stretch/>
        </p:blipFill>
        <p:spPr>
          <a:xfrm>
            <a:off x="52214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88440" y="72072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s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62080" y="158436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u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69360" y="266400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/Elle/On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39760" y="36720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us so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27960" y="4680000"/>
            <a:ext cx="17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ê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5000" y="576108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s/Elles s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94120" y="765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8680" y="1700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53960" y="270828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62240" y="378936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9440" y="4869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r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50720" y="58053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t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-74520"/>
            <a:ext cx="9144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t’s get conjug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70160" y="0"/>
            <a:ext cx="41734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eudi, le 17 ju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052640"/>
            <a:ext cx="7488000" cy="3384360"/>
          </a:xfrm>
          <a:prstGeom prst="cloudCallout">
            <a:avLst>
              <a:gd name="adj1" fmla="val 41074"/>
              <a:gd name="adj2" fmla="val 58254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092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e vais réviser le passé composé avec les verbes ‘avoir’ (Part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1519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past tense – used to talk about events that happened ‘once’ in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walked into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ate pizza and drank c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listened to music in my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went into town with m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ssé Compos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3130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are ‘avoir’ ver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920" y="1057320"/>
            <a:ext cx="765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’ verbs need to use ‘avoir’ to create 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st French verbs take the verb ‘avoir’ when they 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=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You use the present tense of ‘avoi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’ai – I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as –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/Elle/On a – He/She/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avons –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avez -  You a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/Elles ont – They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VOIR’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34196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’ai – I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as –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/Elle a – He/She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avons –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avez – You a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/Elles ont – They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62064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320" y="4221000"/>
            <a:ext cx="371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dings – take the ve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nock off the ending er/ir/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 – é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jouer&gt;jo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r – i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inir&gt;f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 – u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vendre&gt;ve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41623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7800" y="692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838680"/>
            <a:ext cx="4787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6320" y="770040"/>
            <a:ext cx="160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+2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jo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ven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8136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566100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1486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0000" y="2521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3529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21440" y="4626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21440" y="5705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21440" y="59364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21440" y="1530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21440" y="2565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2214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26880" y="69372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3440" y="15573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u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3800" y="263700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l/Elle/O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6880" y="36450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Nous av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6160" y="465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Vous a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6520" y="573408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ls/Elles 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89440" y="7700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4880" y="17049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35600" y="2712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i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33440" y="37940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ou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1440" y="48736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41360" y="5810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tt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74520"/>
            <a:ext cx="91440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ugation by chanc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-54144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3860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rregular Past Parti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9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-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oire – to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endre –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ître – to know (some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roire – to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 –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 – 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Être –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re – 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tre – 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uvoir – to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ndre –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voir – to know (a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ir – 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oir – 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7640" y="69192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u -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u - d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is -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u – k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u - bel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û – h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t -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été -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t – done/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s -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 -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s - t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 - k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u -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u - 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7640" y="393372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vo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665120" y="5118120"/>
            <a:ext cx="14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u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/El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s av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us av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s/Elles 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51640" y="3860640"/>
            <a:ext cx="0" cy="29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1640" y="386064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5257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 peu de 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é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morning he watched a fil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esterday I listened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ast summer I did the wash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aturday she played football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e ate at six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362320" cy="1676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té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 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0:36:26Z</dcterms:created>
  <dc:creator>Lisa S</dc:creator>
  <dc:description/>
  <dc:language>en-US</dc:language>
  <cp:lastModifiedBy>Administrator</cp:lastModifiedBy>
  <dcterms:modified xsi:type="dcterms:W3CDTF">2010-06-17T01:26:41Z</dcterms:modified>
  <cp:revision>18</cp:revision>
  <dc:subject/>
  <dc:title>PowerPoint Presentation</dc:title>
</cp:coreProperties>
</file>